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B2E-035A-4479-A0D7-C2B1BB27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F85-C7BF-4C08-89BB-E1ED94E5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1D8-A967-46C2-B023-9E0696C8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4DA-BAA2-4485-B1B4-B480CE06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502F-A6E9-40D1-A422-0B2C9711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667A-9F53-4F4C-8238-76F34998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72E1-5EA4-45E2-A37B-FEB2FFC1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DD21-666D-4416-BE0E-D127A98C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F4A6-5648-4175-BC11-5990ADAD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6613-1F8D-40FB-8D86-8440B650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530A-0387-4129-8E23-23092193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7F9-199E-4A1B-A05C-4451C3C5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C6A6-0F3A-416F-B7E7-E8320324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D027-AC2C-4682-AB5A-A8EA4562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BD25-A174-49AB-8DCD-AC7DD7DE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83E8-47C6-4D16-B4FC-4EF24A09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922D-2EE1-4C6B-A097-BA0F4E28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D5355-4ACD-4529-8750-A560464A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B6B29-491A-4F5F-AD92-788F6FE2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F2EDE-F778-4564-AB04-3E7B4AE2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566C-E5F6-46D4-9887-80BF5072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49A0-4DC2-4455-B032-697EAB8B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F290-5FDF-4C62-BD2B-FAC0056F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155EE-6A19-42BF-AE06-A6F74975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68C79-CAE8-4574-B0CE-793C1969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1BD7-E368-49A8-804D-93BD8326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DBC37-AF7C-479B-A385-554F4BE3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2A723-7183-473C-A198-B34372AC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261F-67A8-4D29-B615-9C16209E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C67CE-DDFD-4A81-902A-83003ECC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38138-1610-4943-87BD-9A5313DF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087F7-7025-45EB-8D9C-C0B4313F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C6986-79FC-4554-9F44-5EA6EC58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ABF-C7E7-4DAF-B6A5-6802CC53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57791-C61C-498D-A780-ED2F07E5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4F938-0207-4297-B881-1302442D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373B5-E7F6-4016-9E6C-CD7CA477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45E33-2720-4AFC-80E5-C8BC38B4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CC971-DACC-440E-92AC-D569BFB8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3C987-6847-4974-8282-5DBFE78F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85183-1546-4608-A245-30500213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95D8E-2B91-4C5D-A579-631C1346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D2D39-3B3D-4EE8-8A7C-73D2D815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F3024-59FB-472C-8D29-A202CA5D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568-590F-4D39-8654-3B3D7CF9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5D880-E81A-4C1C-AE58-46D672FA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88882-E170-41AC-BC32-C6CB901E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4989F-43A6-4F1B-9B26-9D640B88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65920-F38B-418D-BDDC-1874726C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482C1-A3A2-4CE8-A862-BEBEAAAD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AD2AF-1D86-4F84-A92A-DF15DAB5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EC2E8-ABD5-4736-BB77-D3390544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E4E57-F80F-42E5-9877-0284B3A4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681FE-F9FB-4A8B-95C3-01E07925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6CC69-F67C-456F-BF05-328B7D05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066-5B41-4DE4-A5D9-D26C2483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FDB95-A2E4-4F1D-A309-62884273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6BD64-4B4E-411D-B77B-32A4ABFF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98CF7-4656-4DE5-8DF3-7AA40AB1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188C4-E310-4B48-B673-654C886D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3B0DE-3314-4EF5-8DBB-22939809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6CD6C-1D48-4B0D-91C1-9D422139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1E7CF-4A6B-4039-A62E-FF42861B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77FF3-0BC0-4C37-ACA4-8A76981E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F125A-96A8-4F34-815A-44C99E58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D757D-3FCC-4D2C-98E2-1BE161D1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03D-0245-4B75-87D7-F00E3F38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0E5D3-F6F6-4167-ACEB-6789ECA2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FD324-60ED-4B53-8175-BDD3D370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FEC30-9139-47CB-B3DF-784E59B1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43C74-C55E-4B90-9E0B-55DF4E52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CFBCF-1F91-431A-A705-5A0ADDF7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FAA1A-11ED-427E-872C-0B93EB9F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4DA3D-E0CD-4451-82F8-A193BC4A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45DA0-0888-4FCA-9C01-034E8779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4D6B4-6903-4EC7-A3BD-002ED987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5ECBC-C63C-426F-88E9-8AD670A6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37D3-A345-4B4C-8C8D-A69F6111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0558D-ECE8-425C-AF37-AA695D02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1CF8E-C67C-46B2-A7FC-FE2B4349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E6E4D-A49F-4DF4-A2F8-B227993C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D3EBF-01D5-4678-8A1E-C2AB1082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3E220-004C-4435-9EF9-A97A538B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5CB-B0B1-4F93-8AC3-A50C424E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1355-0BD3-4D62-B49B-5534B23F0E7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398C-6006-4DD3-A333-06A6C8D8A54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7E7F-D0A8-4A13-A345-8AAB8189AF4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FBC0-3224-4E27-A6DA-04C2AC5A4FF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26B1-5DD0-4544-88D6-037DB1CF1A2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8D13-093E-4582-8C19-9BC6C0E1E37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CD74-F00D-4394-8F9C-B4F633AA06F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ported Spee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Indirect Speec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direct Spee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orted speech reports what a speaker said without using his or her exact word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orting verbs are used such as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said, told, indicated, mentioned, report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orted Speech: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professor told me that he had written a book about his resear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kshifting” Verb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rbs in reported speech shift back in ti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. Original: “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We are conducting some research with crows.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orted Speech: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The scientist explained that she was conducting some research with crow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kshifting” Verb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57200" y="1752480"/>
          <a:ext cx="8229600" cy="4480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sent tense to 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ny animals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very intelligent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zoologist said                 (that)many animals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wer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ery intellig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sent Progressive Tense to Past Progressive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I’m conductin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n experiment on crow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he said (that) she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was conductin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n experiment on crow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t tense and Present Perfect Tense to Past Perfec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crows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mad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 hook to get food from a tre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e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have never studie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is behavior befor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researcher reported (that)the crows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had mad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 hook to get food from a tre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he said (that) they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had never studied 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s behavior befo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ake turns changing the direct speech to indirect or reported speech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057400" y="2666880"/>
          <a:ext cx="5486400" cy="3210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am studying bonobos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researcher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older chimp helped the new chimp to find food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scientist…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ne of the chimps has helped another chimp before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lab worker……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usan won’t be in class because she is sick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teacher.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anging Moda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434960" y="1447920"/>
          <a:ext cx="7499520" cy="4943520"/>
        </p:xfrm>
        <a:graphic>
          <a:graphicData uri="http://schemas.openxmlformats.org/drawingml/2006/table">
            <a:tbl>
              <a:tblPr/>
              <a:tblGrid>
                <a:gridCol w="2568600"/>
                <a:gridCol w="2430720"/>
                <a:gridCol w="2500200"/>
              </a:tblGrid>
              <a:tr h="368280"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0120"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odals will, can, and may change form in  reported speec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won’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e at the meeting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ask my colleague to take notes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m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be able to send my secretary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he explained (that) she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wouldn’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be at the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et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he said (that) she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oul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k her colleague to take no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he mentioned (that) she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m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be able to send her secreta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739880"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hange must to had 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 not change the modals should, could, might or ought 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mu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find a way to repeat my experiment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he said (that) she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had t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nd a way to repeat her experi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ake turns changing the direct speech to indirect or reported speech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447920" y="2362320"/>
          <a:ext cx="7499160" cy="3754440"/>
        </p:xfrm>
        <a:graphic>
          <a:graphicData uri="http://schemas.openxmlformats.org/drawingml/2006/table">
            <a:tbl>
              <a:tblPr/>
              <a:tblGrid>
                <a:gridCol w="2450880"/>
                <a:gridCol w="254808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should publish my results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may be able to publish them in Ju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results must be published soon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y won’t be published until the research is complete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scientist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he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r boss…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ther Chang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34960" y="1447920"/>
          <a:ext cx="7499520" cy="1833480"/>
        </p:xfrm>
        <a:graphic>
          <a:graphicData uri="http://schemas.openxmlformats.org/drawingml/2006/table">
            <a:tbl>
              <a:tblPr/>
              <a:tblGrid>
                <a:gridCol w="2500560"/>
                <a:gridCol w="2498760"/>
                <a:gridCol w="2500200"/>
              </a:tblGrid>
              <a:tr h="368280"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739880"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hange the pronouns, possessives, and time words to keep the original meanin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I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n’t access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m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mputer because it broke down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yesterday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The studen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aimed (that) she couldn’t access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he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mputer because it had broken down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the day befo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ake turns changing the direct speech to indirect or reported speech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371600" y="2286000"/>
          <a:ext cx="7499520" cy="182880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ou were cheating on your test yesterday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didn’t cheat on the test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teacher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student……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21:23:42Z</dcterms:created>
  <dc:creator> </dc:creator>
  <dc:description/>
  <dc:language>en-US</dc:language>
  <cp:lastModifiedBy> </cp:lastModifiedBy>
  <dcterms:modified xsi:type="dcterms:W3CDTF">2011-04-05T23:18:12Z</dcterms:modified>
  <cp:revision>1</cp:revision>
  <dc:subject/>
  <dc:title>Reported Speech</dc:title>
</cp:coreProperties>
</file>